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7EF7B-39CE-4E0E-B449-CF80439B8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5CC76-F27E-48A6-BBBE-218DF5E1D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CA81B-667F-4FE9-A77A-B2B2D2D8C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F9A17-D3C7-4FB7-9B6E-8C04CFFB3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2CE11F-448B-4B13-AF76-459684405A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DA09B-CFBF-47CB-A271-629181131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74765-42A1-4A2F-920B-B22B77E7E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B75EA-00E9-4C7F-9E0C-0B316531A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F467C-DBCD-432E-82E8-9137FD3FB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CAC28-FE8C-4559-9ABC-31FB467DC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47ED9-E846-41E8-818E-BE3D75292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EEB1E-EF47-4108-9DF6-28E29F0C7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63EC7-0EDE-4C41-82A7-0D22BE41E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29C93-2E62-46D7-A37E-7462DA26B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2C01A-2896-4B1D-9849-760ACED5B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7FBB45-7510-4299-A265-0F206EE065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D23D92-57C3-4954-BEC0-7298DE4360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7D93D-78AC-49BD-864F-CA9E591B3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20D8D-24A0-4539-ADFD-929A60AEC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93736-13F5-4C22-A649-1737E5E17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3495D-A491-449E-B7CF-23903DD4D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1E2E8-AEC9-498F-B861-DDECFE1BF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51F5B-8789-4090-86F7-4881D82F0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67577-2AD1-4D08-8D48-D23860D266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C913C-A65B-4858-BE38-026E9C9D2038}"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51C6D-0D35-47CA-82FA-A25695A514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5EFF-E58A-4766-8162-0927405BBD42}"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04FF-D4C9-4783-A198-49C0ED9576C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hyperlink" Target="file://guide/eNMR/eNMRblock/90pblock.html" TargetMode="External"/><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EB7B-62B9-4CAA-9D0D-F9358B8D97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B9ED8-2D1D-4CC4-A834-7CD92AA176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99E56-1EB3-4E5E-BB57-38156928A5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91224-07DF-41E7-BD6C-38DBC3E8585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FF495-9705-4CD9-A361-FF33F1A9FD4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C7649-5B9D-4E96-97B4-03D6790CAE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D9289-6FEE-48CB-954C-8FBBC4C8721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C276C-4B9E-403C-9FB9-6A3A2BACCB62}"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3B82-96FE-4294-9370-87C33BCCDD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7BAEC-8379-4E12-8BDF-E5C38964ABF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0A3F9-4967-4FF3-BA9F-EF8F1DB1B9B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4723-3DFD-49E7-A536-1658C68003F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47BBE-9665-44E0-9522-C8898E3E35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904E2-DAD2-4C90-AD11-85AF6190AC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84549-2198-479A-A506-D903970C831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02C7-D3B8-4A5F-B188-A56467F395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F3B57-443C-46C7-9D9F-9F59D16456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A253-9DF7-4E0B-82AF-065E5F9120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C67D0-4823-4104-9BA1-04F367ED71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8EB3-BE90-4EAD-9363-B4C1BE01B9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5E7B1-0F84-4A5C-9ED5-489169F6B5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C0A6-94F3-4D83-A1A1-6F3FB36AE7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5A694-CAD0-4FC6-982A-4EC4907E33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8A479-90D1-4EEC-A30A-74430E002F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15504-C876-480D-BA65-F0B6103AFB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17DFD-9C72-40E0-A199-285E7BD1FE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DF16-7ACC-48FB-AE27-6C5295B2C1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3E7D9-B747-4B07-809A-186E79A733E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64A34-6D4F-4077-B7F8-C8DB8D404B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F3855-8DEC-470A-A148-430ABD890A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9CB40-47C7-4270-8DD5-6763C6CCEF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09AAF-B95A-46E8-8132-91B4AA1DA4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0F440-5FE9-424D-9008-E50257DE5D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C535-7C38-4709-90F3-4CDACCDB49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603E6-504F-465B-B95F-10472D0089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polarization transfer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0AB16-5014-4A4D-9AA2-414A475F10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186120" y="1039680"/>
            <a:ext cx="87195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i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27FC5-E063-4CAB-846E-7D27B9F3A5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69DE5-838A-4411-A05D-D58A5B1B310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16920"/>
            <a:ext cx="8692200" cy="28674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a:t>
            </a:r>
            <a:r>
              <a:rPr b="0" lang="cs-CZ" sz="1200" spc="-1" strike="noStrike" u="sng">
                <a:solidFill>
                  <a:srgbClr val="6767ff"/>
                </a:solidFill>
                <a:uFillTx/>
                <a:latin typeface="Tahoma"/>
                <a:hlinkClick r:id="rId2"/>
              </a:rPr>
              <a:t>excitation 90º 1H pulse</a:t>
            </a:r>
            <a:r>
              <a:rPr b="0" lang="cs-CZ" sz="1200" spc="-1" strike="noStrike">
                <a:solidFill>
                  <a:srgbClr val="00009a"/>
                </a:solidFill>
                <a:latin typeface="Tahoma"/>
              </a:rPr>
              <a:t>,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3"/>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E8C4-FDED-4CE6-930B-A00108D283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38C1C-F346-469F-92E1-FD897142F1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the ROESY 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DDDF5-18BB-4CE1-8A19-81E30B3117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93A2-1498-4E25-BC98-679F143F5FD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DD65D-6FEC-47CE-9E15-716629B9760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n excitation 90º 1H pulse, th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between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8F44E-DC4F-49E7-8A57-944D67B87C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7A0C-51AF-4EE1-98A8-F69B004783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to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BE485-C362-4A48-BA3A-F9D34CDF15C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44AA8-8205-4622-BBA8-FA755CB4DA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60B2-F420-4B8D-A5DD-2F2FF5D43BD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EC4E7-B510-471C-99C7-10B60AB8BE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1-05-18T12:48:45Z</dcterms:modified>
  <cp:revision>307</cp:revision>
  <dc:subject/>
  <dc:title>NMR a energiové hladiny</dc:title>
</cp:coreProperties>
</file>