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072705"/>
        <c:axId val="77646814"/>
      </c:scatterChart>
      <c:valAx>
        <c:axId val="9072705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7646814"/>
        <c:crosses val="autoZero"/>
        <c:crossBetween val="midCat"/>
        <c:majorUnit val="1"/>
      </c:valAx>
      <c:valAx>
        <c:axId val="77646814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072705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71430952"/>
        <c:axId val="52378334"/>
      </c:scatterChart>
      <c:valAx>
        <c:axId val="7143095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2378334"/>
        <c:crosses val="autoZero"/>
        <c:crossBetween val="midCat"/>
        <c:majorUnit val="1"/>
      </c:valAx>
      <c:valAx>
        <c:axId val="52378334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43095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95092547"/>
        <c:axId val="56775694"/>
      </c:scatterChart>
      <c:valAx>
        <c:axId val="95092547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6775694"/>
        <c:crosses val="autoZero"/>
        <c:crossBetween val="midCat"/>
        <c:majorUnit val="2"/>
        <c:minorUnit val="1"/>
      </c:valAx>
      <c:valAx>
        <c:axId val="56775694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5092547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1102291"/>
        <c:axId val="74380028"/>
      </c:scatterChart>
      <c:valAx>
        <c:axId val="2110229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4380028"/>
        <c:crosses val="autoZero"/>
        <c:crossBetween val="midCat"/>
        <c:majorUnit val="2"/>
        <c:minorUnit val="0.05"/>
      </c:valAx>
      <c:valAx>
        <c:axId val="7438002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110229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31572756"/>
        <c:axId val="69435786"/>
      </c:scatterChart>
      <c:valAx>
        <c:axId val="3157275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435786"/>
        <c:crosses val="autoZero"/>
        <c:crossBetween val="midCat"/>
        <c:majorUnit val="2"/>
        <c:minorUnit val="0.05"/>
      </c:valAx>
      <c:valAx>
        <c:axId val="6943578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157275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2686480"/>
        <c:axId val="85415394"/>
      </c:scatterChart>
      <c:valAx>
        <c:axId val="9268648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5415394"/>
        <c:crosses val="autoZero"/>
        <c:crossBetween val="midCat"/>
        <c:majorUnit val="2"/>
        <c:minorUnit val="0.05"/>
      </c:valAx>
      <c:valAx>
        <c:axId val="8541539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68648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6661169"/>
        <c:axId val="1533322"/>
      </c:scatterChart>
      <c:valAx>
        <c:axId val="5666116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533322"/>
        <c:crosses val="autoZero"/>
        <c:crossBetween val="midCat"/>
        <c:majorUnit val="2"/>
      </c:valAx>
      <c:valAx>
        <c:axId val="1533322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661169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1442683"/>
        <c:axId val="26481106"/>
      </c:scatterChart>
      <c:valAx>
        <c:axId val="4144268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481106"/>
        <c:crosses val="autoZero"/>
        <c:crossBetween val="midCat"/>
        <c:majorUnit val="2"/>
      </c:valAx>
      <c:valAx>
        <c:axId val="26481106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442683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31784685"/>
        <c:axId val="45190139"/>
      </c:scatterChart>
      <c:valAx>
        <c:axId val="3178468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5190139"/>
        <c:crosses val="autoZero"/>
        <c:crossBetween val="midCat"/>
        <c:majorUnit val="2"/>
        <c:minorUnit val="0.05"/>
      </c:valAx>
      <c:valAx>
        <c:axId val="4519013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178468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F7EAFF-5BA0-45D6-B27D-DE7E688B8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BAC2F1-D9DB-42CF-BD65-ECC42C479AD3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59371C-5190-4215-93CF-45D10BEFD2D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9110F3-3EF4-4277-80C0-33DA71D02E1B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