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6BC4B-44F6-48BF-A3AE-596577689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5F82E-F1DD-44F4-A7D5-183603004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9EFB0-C1D4-4846-8AFE-09046157E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8A884-2F68-4523-94EE-2FDB6B8A4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6EB40-8954-49BD-9929-8CBA4FD182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74E8E-4EC3-4F4E-A595-C32B821E2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23003-D188-48C3-B7BE-38A75C10E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54049-3C0A-4E38-B9FC-DB4FE7569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59FE0-6985-47E8-B26F-8D7E728CE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4F7DB-E421-4F75-8119-447081EA5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BACC8-B3B8-4325-B919-2402A988D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E58D2-5752-437E-965F-030F345E6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5468D-E5EB-4038-98B7-DD04CE244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2EEC6-9B01-4F7F-AF90-E541DEDEE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D43EA-1495-4FBF-BEBA-049C698F8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382177-25FF-40E6-A688-D7FC4BDB3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8BA68A-13FF-4E79-8B14-D9B5564E5D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C501D-5778-493D-AE79-4121284EE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60994-29DF-45DA-88E2-53702CABB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2D03F-F4FB-433A-9FCE-1F94D00AB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C19DD-3D77-4768-8024-A78977E6A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E8FDB-8012-48BA-94C9-253B1711A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191BC-381E-4C52-ADFF-7651A9C5A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191A4-9AE2-48EB-BE39-BC03531DD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B9AAB-0D0E-46CC-AA00-C89B5982AD64}"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3ADD-5193-4A5B-8AF1-7D615EBC9A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0B44-B8B5-4444-B19E-0267BA1EDD41}"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2358-A373-4B02-9FE3-CE81B6E8BA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image" Target="../media/image11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7C20-433A-46C9-9801-BCCDC64D4EF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3FE6-7536-4646-8821-245B7459F5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5DBD1-8A99-49D4-88E4-D16175B432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4B20-833B-4EB0-A130-2235D5E4EEE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AD85D-0797-48BD-B641-3549F39E35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3372D-4EFB-4A0F-9B0E-8172C288727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A1A0-BC7B-4377-B27C-D1045BFFA3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31D1-29F3-49EF-8868-F8CE231E0218}"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E8FA-4569-412B-9405-E7D9F3FE09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82F91-09EF-4A1C-9445-31ADC9C25A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A08F-4551-4A52-93B8-AE27F51F25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D958-ED77-4F89-AB27-CCAFD572A9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4F5C-C280-4212-8515-D6F4EBB339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1448-7EDB-4DC1-9973-BA50559F3E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BB854-210C-4C25-906C-412AB5461E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CC17-8F64-4564-8076-2B75F7C4B2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64C01-A6A4-4449-ABA3-3EBB489573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2D9D-7DBF-4A41-96B1-012B57A6D9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DEFD-EA93-4CC1-9A1A-A2FC3DA38D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124A-4B5B-4F76-B16D-3229796C29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C0C3E-8A2D-4E27-9B40-11F25A2432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35B9-BD87-4AE0-A636-2A691904C4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EA53-4892-4091-82E5-7FF7057AEA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A329-D211-479C-8FBB-8E1F2658FA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9FC5-FC46-4DFC-B83D-868AE4AC52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B258A-0F2A-40F1-BEAE-D36BCD9BE0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349D0-39C8-4C44-B0C8-A28791407C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06F5-750A-470A-BF51-3C4C459A45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05BF-6A82-4520-A45F-E6937237AB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423D-D9A9-4588-ADD8-A051A53F48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A0B02-4DC6-4E58-9911-3433B18986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D6D7F-07CD-4296-990C-3B7C567C7C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3452B-17F1-4BD1-B330-133F19FC90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18E9-206B-4AF5-8889-317F835424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58F5-628D-480E-AE8D-98235CBD8C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1B81-2CCF-4230-9E66-ADAE7655EA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3CCFC-39E1-4774-BE11-478A5CFA7B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58511-76E3-4664-81E5-8C2FB58BA1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D578-ED84-4D58-A52D-83888B25A5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C2A4-DAC5-4605-A4AD-BFC1B164D4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3FFCB-647D-426C-B5DD-59DEE08DD5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B855-CB08-4D30-92AE-B68C43B8C7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8793-73F5-414A-AC1F-C879712A82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2AD4F-5D8A-4301-BF10-E5403BCA4A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AA5C-802E-4FB6-A5F6-B662B7609F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EAA5B-BCB9-40F0-8AD3-EBC7ADA760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F93E-B170-420B-80C5-E4A5274222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835C-F0C7-4A24-9E51-7A0878D684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D166-EA0A-41EB-A2DD-AA3C4C61A6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0-12-15T15:02:35Z</dcterms:modified>
  <cp:revision>306</cp:revision>
  <dc:subject/>
  <dc:title>NMR a energiové hladiny</dc:title>
</cp:coreProperties>
</file>