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67EBB-4369-48BB-A17E-B3DAB1CD227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520C1-3AB5-476F-9535-FE0438EB78D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6CC93-3920-43DF-8DCD-93523E76300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3441E-84D1-4F50-8BE9-E4140024EF0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78135-41DB-440A-932B-91E1553EC8B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CBF05-3593-4A2D-A670-8E23E7AA8FD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C0BD6-2274-4324-B257-5EF8D42DDEF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D0DE4-A7F2-4CDD-8AFD-777DEB4BC4A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4BF7C-AD3B-4BF8-ADA1-F08AF320C91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F0322-A186-4020-B0A6-6B8227DF397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FFD8E-D9C9-4AF2-884F-193C0F90E88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641B9-B55C-4089-A726-99DF740F10E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6075D-D116-4153-BE50-FEFF341A74C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EAA55-857C-4776-8149-7FC16E26227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314A5-06BA-4FA8-B322-D2B8F155CE2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CCCD3-3356-4B43-8AC6-4F1470CBB90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66177-247B-4D6D-B685-4204451A8A7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2EF07-FC30-456E-BA23-5242B24E659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AA32D-2B60-4BA9-9D0D-263678F74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FF208-75D9-41D4-8A0F-4D7154101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796FF-D1DC-41C9-8FDA-D6F31E335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D3830-7078-44B5-88E7-10C896FA8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21D50-BE15-4567-B9BE-8892366AD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42FAE-1A65-448D-ADE6-B12D055AC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49A2B-F29D-4191-8FE2-677A2F0AC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E2B61-8BFF-47AC-9EC5-FBBACC9B6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04C0B-0493-4785-A5C2-09B78D92D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3D3F0-D41A-42D7-AC28-E4EBE7094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F476E-19AF-43CF-993A-1FECCA33F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618DA-762B-4CBB-A731-EB6AA12ED1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15BB8-5A6F-4C86-8152-25F08EDA610E}"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4-03-14T13:08:42Z</dcterms:modified>
  <cp:revision>175</cp:revision>
  <dc:subject/>
  <dc:title>Slide 1</dc:title>
</cp:coreProperties>
</file>