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5695E-3A9A-4F52-9FC0-4E18B28DC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08F98-152C-4FBF-B4AB-A5AE2521C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7DC60-3B45-4978-9E9D-204060C4D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2F652-AEF5-4FF9-9ADA-7926301BE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0B4AF-23AA-4753-9FC9-6FFF3542CA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7A316-248C-4351-8478-3A644B9675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E9100-D7A8-4755-A7BF-DC74F9D67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7A476-E98F-4351-8AAA-2AF1BD6F9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6CB79-587A-4D8C-B01B-6DD6F78B2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C18F0-3690-4E02-A7A2-3E14EE2F2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D490C-9F16-4EC5-9536-F63B67187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ED8F8-A0DF-44A9-BE38-B2794B7BB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DD8A0-066D-471B-993A-55F24E99D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89CFC-A4B4-430C-BCC5-D942ADAE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533A6-7088-4B60-8673-197BB0EA7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5801B-0F05-4535-AF61-8DD5EE55F5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E076D-6004-4B0D-9A06-8459A0813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9D31-376C-495C-A41A-05A66DD4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69689-B834-4268-A9C5-9EC8EDFFC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F6518-5C07-4023-B338-E3FA45CB9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DF134-54BB-402C-8423-9970BA797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05C6D-5431-446D-8B11-D11D2FBE0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E44CE-4C0E-4D63-AAA6-96112AC58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AD363-15A1-4A12-A94A-1022C3B41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A933-B0E3-46F6-8E77-F21524F8CF7A}"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1304-CBD0-4033-A9B6-F479A3E947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572E-8623-472B-8C8B-F00554E11691}"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61C2-A380-4F01-BE3B-B69EE5EBFA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image" Target="../media/image11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05FB-1DE0-43DB-AE18-6DD999BCE3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A2E2E-7EFC-48DA-9AE7-440AAFACB3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2347-E3F6-4B5D-A9EE-4778865A0B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A5D50-4A44-410E-ACB5-7C7B1B7BCA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971DB-F8BB-47BF-8C5F-05133ADBAF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FB72-9B81-402A-B666-15E6BB4512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B4CA-53EC-4B48-ABAA-18A56F90B5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D1957-2A21-4379-8CC6-EF7C6C64495C}"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A91F-A716-4C89-856D-3E163ABFB2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7EC3-EDEF-497D-B0D0-026E3D9FB9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0703-9221-419B-9227-3B2CE7540F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8664-444B-42E6-94D4-99587736102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2160-B6B7-416B-BB3D-8C4F066D773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DD3F-944D-4C44-B0EC-05AC9994A8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2DA5-BF16-4BEC-8AA4-8A75DF4851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DAF8-79F3-4979-917B-715F25ACC8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F6E6-B3FD-44C0-9BE4-89A4898B04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8921-81DE-4D69-9E60-1C24CA6572B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1572-96EF-43E9-916F-B0109D40BC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2E78-5BD2-479A-BB71-CBC12A70CC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E60C-BDE8-4977-A809-ACF829D3AA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0662-7640-46BD-B42C-E4FCBF7443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106D-8EB2-4D77-944A-1D65DFD882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5528-3E71-4E93-8FB1-C15DF54D98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A48C-3F0C-46E5-A7CF-318D5FF7C8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E1CA-EB17-4EBE-9974-7ABE146537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80ED-7F70-44E8-AD06-4D6D7370DE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92FA-1652-4568-8B3B-F9F40CE418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04FC9-6F13-4A99-9BDF-7CF61B5721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DC10-8E6B-45F2-8A4A-46E078DC41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BB2E-005D-4C6D-AA30-825071C98E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303E-B633-4273-A328-97FD3F4559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B5B64-0EBE-418D-A095-06BEBE01BC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430F-2782-42CD-AF9E-991AD39E1F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874E-3AA5-496E-9898-10B780B6DB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C949-FF9E-45BE-9466-3121749612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00BA-2427-4913-9C0F-0AFF0BD7BE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A0FF-4C26-492C-9D7E-36CA04E836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9062-1345-49A2-8626-BEDD4E2D53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8A818-50F5-419B-A7AD-82D42D9EEF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AE36-BA62-4B8B-9527-C7809E24C1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C487D-BDDC-4941-BD88-29F58AE2E8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D63C-0CE5-4E06-803F-66290ACE3E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301E-1660-4593-9DA8-78F1E15643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F65E-7529-4463-B0E9-A71DC48BA7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D143-D17B-400F-8B0A-41B7E20889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BDBE-8DFD-491D-9EE1-110C201B0E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D9FB-FDD9-479B-9FA7-EA1B597381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D18E-B16C-4B9C-B14D-472BA48C66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0-12-15T15:02:35Z</dcterms:modified>
  <cp:revision>306</cp:revision>
  <dc:subject/>
  <dc:title>NMR a energiové hladiny</dc:title>
</cp:coreProperties>
</file>