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8115977"/>
        <c:axId val="96374367"/>
      </c:scatterChart>
      <c:valAx>
        <c:axId val="58115977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6374367"/>
        <c:crosses val="autoZero"/>
        <c:crossBetween val="midCat"/>
        <c:majorUnit val="1"/>
      </c:valAx>
      <c:valAx>
        <c:axId val="96374367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8115977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33786588"/>
        <c:axId val="62485547"/>
      </c:scatterChart>
      <c:valAx>
        <c:axId val="33786588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2485547"/>
        <c:crosses val="autoZero"/>
        <c:crossBetween val="midCat"/>
        <c:majorUnit val="1"/>
      </c:valAx>
      <c:valAx>
        <c:axId val="62485547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3786588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92733146"/>
        <c:axId val="17953542"/>
      </c:scatterChart>
      <c:valAx>
        <c:axId val="92733146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17953542"/>
        <c:crosses val="autoZero"/>
        <c:crossBetween val="midCat"/>
        <c:majorUnit val="2"/>
        <c:minorUnit val="1"/>
      </c:valAx>
      <c:valAx>
        <c:axId val="17953542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92733146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1303124"/>
        <c:axId val="569547"/>
      </c:scatterChart>
      <c:valAx>
        <c:axId val="4130312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69547"/>
        <c:crosses val="autoZero"/>
        <c:crossBetween val="midCat"/>
        <c:majorUnit val="2"/>
        <c:minorUnit val="0.05"/>
      </c:valAx>
      <c:valAx>
        <c:axId val="56954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130312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50277618"/>
        <c:axId val="71072391"/>
      </c:scatterChart>
      <c:valAx>
        <c:axId val="5027761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1072391"/>
        <c:crosses val="autoZero"/>
        <c:crossBetween val="midCat"/>
        <c:majorUnit val="2"/>
        <c:minorUnit val="0.05"/>
      </c:valAx>
      <c:valAx>
        <c:axId val="7107239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027761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2357793"/>
        <c:axId val="900556"/>
      </c:scatterChart>
      <c:valAx>
        <c:axId val="235779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00556"/>
        <c:crosses val="autoZero"/>
        <c:crossBetween val="midCat"/>
        <c:majorUnit val="2"/>
        <c:minorUnit val="0.05"/>
      </c:valAx>
      <c:valAx>
        <c:axId val="90055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35779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5564481"/>
        <c:axId val="32557776"/>
      </c:scatterChart>
      <c:valAx>
        <c:axId val="8556448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2557776"/>
        <c:crosses val="autoZero"/>
        <c:crossBetween val="midCat"/>
        <c:majorUnit val="2"/>
      </c:valAx>
      <c:valAx>
        <c:axId val="32557776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5564481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8133070"/>
        <c:axId val="44431535"/>
      </c:scatterChart>
      <c:valAx>
        <c:axId val="8813307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4431535"/>
        <c:crosses val="autoZero"/>
        <c:crossBetween val="midCat"/>
        <c:majorUnit val="2"/>
      </c:valAx>
      <c:valAx>
        <c:axId val="44431535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8133070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72965947"/>
        <c:axId val="88772602"/>
      </c:scatterChart>
      <c:valAx>
        <c:axId val="7296594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8772602"/>
        <c:crosses val="autoZero"/>
        <c:crossBetween val="midCat"/>
        <c:majorUnit val="2"/>
        <c:minorUnit val="0.05"/>
      </c:valAx>
      <c:valAx>
        <c:axId val="8877260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296594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76D737-6CC8-4D4F-A2C6-2A0D80492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C89AB2-C6B8-4EA7-91F9-D01B5DA6F8A7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D16379-63D3-4FDD-986E-95A6079816C4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278B93-B370-496C-B74E-FA1103F20EEA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