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175799"/>
        <c:axId val="40128437"/>
      </c:scatterChart>
      <c:valAx>
        <c:axId val="7175799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0128437"/>
        <c:crosses val="autoZero"/>
        <c:crossBetween val="midCat"/>
        <c:majorUnit val="1"/>
      </c:valAx>
      <c:valAx>
        <c:axId val="40128437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75799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73520956"/>
        <c:axId val="65905696"/>
      </c:scatterChart>
      <c:valAx>
        <c:axId val="73520956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5905696"/>
        <c:crosses val="autoZero"/>
        <c:crossBetween val="midCat"/>
        <c:majorUnit val="1"/>
      </c:valAx>
      <c:valAx>
        <c:axId val="65905696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520956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21013711"/>
        <c:axId val="6476014"/>
      </c:scatterChart>
      <c:valAx>
        <c:axId val="21013711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476014"/>
        <c:crosses val="autoZero"/>
        <c:crossBetween val="midCat"/>
        <c:majorUnit val="2"/>
        <c:minorUnit val="1"/>
      </c:valAx>
      <c:valAx>
        <c:axId val="6476014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1013711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81262910"/>
        <c:axId val="87004099"/>
      </c:scatterChart>
      <c:valAx>
        <c:axId val="8126291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004099"/>
        <c:crosses val="autoZero"/>
        <c:crossBetween val="midCat"/>
        <c:majorUnit val="2"/>
        <c:minorUnit val="0.05"/>
      </c:valAx>
      <c:valAx>
        <c:axId val="8700409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126291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91941920"/>
        <c:axId val="73909082"/>
      </c:scatterChart>
      <c:valAx>
        <c:axId val="9194192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909082"/>
        <c:crosses val="autoZero"/>
        <c:crossBetween val="midCat"/>
        <c:majorUnit val="2"/>
        <c:minorUnit val="0.05"/>
      </c:valAx>
      <c:valAx>
        <c:axId val="7390908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194192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16876836"/>
        <c:axId val="8001960"/>
      </c:scatterChart>
      <c:valAx>
        <c:axId val="1687683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01960"/>
        <c:crosses val="autoZero"/>
        <c:crossBetween val="midCat"/>
        <c:majorUnit val="2"/>
        <c:minorUnit val="0.05"/>
      </c:valAx>
      <c:valAx>
        <c:axId val="800196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687683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9901998"/>
        <c:axId val="60286598"/>
      </c:scatterChart>
      <c:valAx>
        <c:axId val="7990199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0286598"/>
        <c:crosses val="autoZero"/>
        <c:crossBetween val="midCat"/>
        <c:majorUnit val="2"/>
      </c:valAx>
      <c:valAx>
        <c:axId val="60286598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9901998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3941960"/>
        <c:axId val="78310739"/>
      </c:scatterChart>
      <c:valAx>
        <c:axId val="6394196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310739"/>
        <c:crosses val="autoZero"/>
        <c:crossBetween val="midCat"/>
        <c:majorUnit val="2"/>
      </c:valAx>
      <c:valAx>
        <c:axId val="78310739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3941960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92815290"/>
        <c:axId val="78638655"/>
      </c:scatterChart>
      <c:valAx>
        <c:axId val="9281529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638655"/>
        <c:crosses val="autoZero"/>
        <c:crossBetween val="midCat"/>
        <c:majorUnit val="2"/>
        <c:minorUnit val="0.05"/>
      </c:valAx>
      <c:valAx>
        <c:axId val="7863865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81529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DCA93E-304F-41EC-87DA-58C72D3D7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DEF7F4-2650-4E4B-9057-B4FAB55822DE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5F119D-CAC0-4598-99FB-BDF77AC6F9B9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51AD4B-FE0C-481C-96A7-7F87FEE57C22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