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5728675"/>
        <c:axId val="84460132"/>
      </c:scatterChart>
      <c:valAx>
        <c:axId val="7572867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460132"/>
        <c:crosses val="autoZero"/>
        <c:crossBetween val="midCat"/>
        <c:majorUnit val="1"/>
      </c:valAx>
      <c:valAx>
        <c:axId val="84460132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72867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0316012"/>
        <c:axId val="35765371"/>
      </c:scatterChart>
      <c:valAx>
        <c:axId val="4031601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765371"/>
        <c:crosses val="autoZero"/>
        <c:crossBetween val="midCat"/>
        <c:majorUnit val="1"/>
      </c:valAx>
      <c:valAx>
        <c:axId val="3576537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31601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15966"/>
        <c:axId val="28481008"/>
      </c:scatterChart>
      <c:valAx>
        <c:axId val="71596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8481008"/>
        <c:crosses val="autoZero"/>
        <c:crossBetween val="midCat"/>
        <c:majorUnit val="2"/>
        <c:minorUnit val="1"/>
      </c:valAx>
      <c:valAx>
        <c:axId val="28481008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1596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4870674"/>
        <c:axId val="74378864"/>
      </c:scatterChart>
      <c:valAx>
        <c:axId val="6487067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378864"/>
        <c:crosses val="autoZero"/>
        <c:crossBetween val="midCat"/>
        <c:majorUnit val="2"/>
        <c:minorUnit val="0.05"/>
      </c:valAx>
      <c:valAx>
        <c:axId val="7437886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87067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10047224"/>
        <c:axId val="14016552"/>
      </c:scatterChart>
      <c:valAx>
        <c:axId val="1004722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016552"/>
        <c:crosses val="autoZero"/>
        <c:crossBetween val="midCat"/>
        <c:majorUnit val="2"/>
        <c:minorUnit val="0.05"/>
      </c:valAx>
      <c:valAx>
        <c:axId val="1401655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04722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1082835"/>
        <c:axId val="46163152"/>
      </c:scatterChart>
      <c:valAx>
        <c:axId val="7108283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163152"/>
        <c:crosses val="autoZero"/>
        <c:crossBetween val="midCat"/>
        <c:majorUnit val="2"/>
        <c:minorUnit val="0.05"/>
      </c:valAx>
      <c:valAx>
        <c:axId val="4616315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08283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5220839"/>
        <c:axId val="7843057"/>
      </c:scatterChart>
      <c:valAx>
        <c:axId val="2522083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43057"/>
        <c:crosses val="autoZero"/>
        <c:crossBetween val="midCat"/>
        <c:majorUnit val="2"/>
      </c:valAx>
      <c:valAx>
        <c:axId val="784305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22083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931009"/>
        <c:axId val="65747033"/>
      </c:scatterChart>
      <c:valAx>
        <c:axId val="693100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747033"/>
        <c:crosses val="autoZero"/>
        <c:crossBetween val="midCat"/>
        <c:majorUnit val="2"/>
      </c:valAx>
      <c:valAx>
        <c:axId val="6574703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3100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0753634"/>
        <c:axId val="29877600"/>
      </c:scatterChart>
      <c:valAx>
        <c:axId val="4075363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877600"/>
        <c:crosses val="autoZero"/>
        <c:crossBetween val="midCat"/>
        <c:majorUnit val="2"/>
        <c:minorUnit val="0.05"/>
      </c:valAx>
      <c:valAx>
        <c:axId val="2987760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75363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5F25FE-F4BD-4C6E-9664-9A7E7FF6B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543E0E-B450-49B3-8407-6B223B4712D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992CB2-AD47-44FB-8BA2-F7D137247D8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82A0C4-5754-45B4-ADEC-81AA3E07BC2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