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525146"/>
        <c:axId val="97890734"/>
      </c:scatterChart>
      <c:valAx>
        <c:axId val="552514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890734"/>
        <c:crosses val="autoZero"/>
        <c:crossBetween val="midCat"/>
        <c:majorUnit val="1"/>
      </c:valAx>
      <c:valAx>
        <c:axId val="9789073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2514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20442369"/>
        <c:axId val="1531108"/>
      </c:scatterChart>
      <c:valAx>
        <c:axId val="2044236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31108"/>
        <c:crosses val="autoZero"/>
        <c:crossBetween val="midCat"/>
        <c:majorUnit val="1"/>
      </c:valAx>
      <c:valAx>
        <c:axId val="153110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4236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1445544"/>
        <c:axId val="13256840"/>
      </c:scatterChart>
      <c:valAx>
        <c:axId val="9144554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3256840"/>
        <c:crosses val="autoZero"/>
        <c:crossBetween val="midCat"/>
        <c:majorUnit val="2"/>
        <c:minorUnit val="1"/>
      </c:valAx>
      <c:valAx>
        <c:axId val="1325684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144554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0111657"/>
        <c:axId val="72797064"/>
      </c:scatterChart>
      <c:valAx>
        <c:axId val="201116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797064"/>
        <c:crosses val="autoZero"/>
        <c:crossBetween val="midCat"/>
        <c:majorUnit val="2"/>
        <c:minorUnit val="0.05"/>
      </c:valAx>
      <c:valAx>
        <c:axId val="7279706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11165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82702281"/>
        <c:axId val="65590143"/>
      </c:scatterChart>
      <c:valAx>
        <c:axId val="8270228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590143"/>
        <c:crosses val="autoZero"/>
        <c:crossBetween val="midCat"/>
        <c:majorUnit val="2"/>
        <c:minorUnit val="0.05"/>
      </c:valAx>
      <c:valAx>
        <c:axId val="6559014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70228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1678652"/>
        <c:axId val="80495567"/>
      </c:scatterChart>
      <c:valAx>
        <c:axId val="9167865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95567"/>
        <c:crosses val="autoZero"/>
        <c:crossBetween val="midCat"/>
        <c:majorUnit val="2"/>
        <c:minorUnit val="0.05"/>
      </c:valAx>
      <c:valAx>
        <c:axId val="804955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67865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196312"/>
        <c:axId val="92207534"/>
      </c:scatterChart>
      <c:valAx>
        <c:axId val="719631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207534"/>
        <c:crosses val="autoZero"/>
        <c:crossBetween val="midCat"/>
        <c:majorUnit val="2"/>
      </c:valAx>
      <c:valAx>
        <c:axId val="9220753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9631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2229146"/>
        <c:axId val="89971894"/>
      </c:scatterChart>
      <c:valAx>
        <c:axId val="6222914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971894"/>
        <c:crosses val="autoZero"/>
        <c:crossBetween val="midCat"/>
        <c:majorUnit val="2"/>
      </c:valAx>
      <c:valAx>
        <c:axId val="899718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22914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073033"/>
        <c:axId val="78022626"/>
      </c:scatterChart>
      <c:valAx>
        <c:axId val="307303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022626"/>
        <c:crosses val="autoZero"/>
        <c:crossBetween val="midCat"/>
        <c:majorUnit val="2"/>
        <c:minorUnit val="0.05"/>
      </c:valAx>
      <c:valAx>
        <c:axId val="7802262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7303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036E5-E5F1-400E-B8CE-6BE211A4C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00023-1EC1-4BD2-BF8F-ECBD5346D2F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B91C1-ACAB-4F82-8514-807E4169293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D67972-F4FB-423E-BAEA-041EDBC79B0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