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15187-9677-41B3-B8C7-CC99610DEB2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E403C-F4C8-4336-AE33-128B62B01BD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A1890-C03E-4413-8C13-E49EE17B565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928D0-599E-4AB3-9FDC-0CBA683267C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A0FD-F7E4-4DC4-965A-F8A233C2B5D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7282E-86D8-40EB-8486-0BDB3AE2D18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42746-D245-4B69-9F93-E760915AE5A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3D8B-579C-4504-8EA5-DE43DB24DDE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E32BC-D793-441C-819D-9EF2B932627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A4478-3DC1-4FEE-9CEB-0985E354FD3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A132D-67BE-45EA-A9F7-CBE37166573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E8C1-28E6-489F-B75A-6CD620C215C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9500A-78EE-45B1-9891-72F006C1804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60A2A-B64F-4AFD-B14B-9CB32F6C712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3219-E681-47B5-BB03-3562E554315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D51A5-CF7B-4F01-B435-24EEB0D8A14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6643-0BA7-4AC6-82F3-AF3DF176B5E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EE486-04AB-470B-A8B3-CEADCCB97DD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321F9-1E9E-4441-B1BE-883730B04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96FDF-0077-41CA-B0A2-1280DA5EA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048A5-C416-4B6D-BAC4-2325136A2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F66B5-80DD-4A85-8429-F873EB332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6D59C-1B4C-4AF5-8A62-6B834240A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64EBB-A5E7-4EAB-B05B-254A4149B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AA2B5-951D-48BB-B2BB-68A80230E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5E588-C2C5-4B32-9E5A-5FA95FCD5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88C4E-9A10-451C-8B0D-615A820EA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E1E36-6632-41F7-AD7F-426F6A313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3F376-22EE-471E-83C7-EA1CF2884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E6F70-182C-4E0F-9922-62E7CB2B05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CBF2B-1365-469A-B094-CFE1179807E7}"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4-03-14T13:08:42Z</dcterms:modified>
  <cp:revision>175</cp:revision>
  <dc:subject/>
  <dc:title>Slide 1</dc:title>
</cp:coreProperties>
</file>